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3003213" cy="9752013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C1A76E-A726-4946-9E86-099313A3F3FA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9D306A6-669C-49E7-92FF-E39E8592C9E9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BAFFD78-B0C6-4BAA-8CEF-4EE0B720DEB0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70520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8458560" y="259092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952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470520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8458560" y="5874480"/>
            <a:ext cx="35740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1D1399-4282-4999-A10B-620356503487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87E00D3-330E-416D-8487-705D061C2319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03FCB37-3C75-4048-B3BB-4B1CA76B6F0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F01B5F0-A6CE-4370-A3C5-421239CA3891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7302677-C9D2-4743-AD85-B6743338D3A8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952200" y="253800"/>
            <a:ext cx="11099880" cy="10008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201"/>
              </a:spcBef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EAB1BD-7684-4250-921C-BD671716C1E5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9D72D4D-D22B-4E3D-8298-1ED0E48E8BD2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639840" y="587448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D519262-60C1-4CC0-BA23-FA203999B56F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95220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6639840" y="2590920"/>
            <a:ext cx="541656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952200" y="5874480"/>
            <a:ext cx="11099880" cy="299844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/>
          </a:bodyPr>
          <a:p>
            <a:pPr indent="0">
              <a:spcBef>
                <a:spcPts val="4201"/>
              </a:spcBef>
              <a:buNone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D01EF9-CF51-4F14-A198-5B7177C5478F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52200" y="253800"/>
            <a:ext cx="11099880" cy="2158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Click to edit the title text forma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952200" y="2590920"/>
            <a:ext cx="11099880" cy="62863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ctr">
            <a:normAutofit fontScale="93000"/>
          </a:bodyPr>
          <a:p>
            <a:pPr marL="4132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1" marL="826560" indent="-41292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2" marL="123984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3" marL="165348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4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5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  <a:p>
            <a:pPr lvl="6" marL="2066760" indent="-413280">
              <a:spcBef>
                <a:spcPts val="4201"/>
              </a:spcBef>
              <a:buClr>
                <a:srgbClr val="000000"/>
              </a:buClr>
              <a:buSzPct val="145000"/>
              <a:buFont typeface="Helvetica Neue"/>
              <a:buChar char="•"/>
              <a:tabLst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Helvetica Neue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1"/>
          </p:nvPr>
        </p:nvSpPr>
        <p:spPr>
          <a:xfrm>
            <a:off x="6327720" y="9296280"/>
            <a:ext cx="341280" cy="32400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t" anchorCtr="1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  <a:def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fld id="{CE406C93-AA87-4F87-B0B9-67CCC2120890}" type="slidenum">
              <a:rPr b="0" lang="en-US" sz="1600" spc="-1" strike="noStrike">
                <a:solidFill>
                  <a:srgbClr val="000000"/>
                </a:solidFill>
                <a:latin typeface="Helvetica Neue Light"/>
                <a:ea typeface="Helvetica Neue Light"/>
              </a:rPr>
              <a:t>&lt;number&gt;</a:t>
            </a:fld>
            <a:endParaRPr b="1" lang="en-US" sz="16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269720" y="1638360"/>
            <a:ext cx="10464840" cy="3301920"/>
          </a:xfrm>
          <a:prstGeom prst="rect">
            <a:avLst/>
          </a:prstGeom>
          <a:noFill/>
          <a:ln w="0">
            <a:noFill/>
          </a:ln>
        </p:spPr>
        <p:txBody>
          <a:bodyPr lIns="50760" rIns="50760" tIns="50760" bIns="50760" anchor="b">
            <a:noAutofit/>
          </a:bodyPr>
          <a:p>
            <a:pPr indent="0" algn="ctr"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r>
              <a:rPr b="0" lang="en-US" sz="8000" spc="-1" strike="noStrike">
                <a:solidFill>
                  <a:srgbClr val="000000"/>
                </a:solidFill>
                <a:latin typeface="Helvetica Neue Medium"/>
              </a:rPr>
              <a:t>Test</a:t>
            </a:r>
            <a:endParaRPr b="0" lang="en-US" sz="8000" spc="-1" strike="noStrike">
              <a:solidFill>
                <a:srgbClr val="000000"/>
              </a:solidFill>
              <a:latin typeface="Helvetica Neue Medium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 type="subTitle"/>
          </p:nvPr>
        </p:nvSpPr>
        <p:spPr>
          <a:xfrm>
            <a:off x="1269720" y="5041800"/>
            <a:ext cx="10464840" cy="11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4201"/>
              </a:spcBef>
              <a:buNone/>
              <a:tabLst>
                <a:tab algn="l" pos="0"/>
                <a:tab algn="l" pos="584280"/>
                <a:tab algn="l" pos="1168560"/>
                <a:tab algn="l" pos="1752480"/>
                <a:tab algn="l" pos="2336760"/>
                <a:tab algn="l" pos="2921040"/>
                <a:tab algn="l" pos="3505320"/>
                <a:tab algn="l" pos="4089240"/>
                <a:tab algn="l" pos="4673520"/>
                <a:tab algn="l" pos="5257800"/>
                <a:tab algn="l" pos="5842080"/>
                <a:tab algn="l" pos="6426360"/>
                <a:tab algn="l" pos="7010280"/>
                <a:tab algn="l" pos="7594560"/>
                <a:tab algn="l" pos="8178840"/>
                <a:tab algn="l" pos="8763120"/>
                <a:tab algn="l" pos="9347040"/>
                <a:tab algn="l" pos="993132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Helvetica Neue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