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02241"/>
        <c:axId val="66393674"/>
      </c:barChart>
      <c:catAx>
        <c:axId val="489022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93674"/>
        <c:crosses val="autoZero"/>
        <c:auto val="1"/>
        <c:lblAlgn val="ctr"/>
        <c:lblOffset val="100"/>
        <c:noMultiLvlLbl val="0"/>
      </c:catAx>
      <c:valAx>
        <c:axId val="66393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022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243-1793-48A5-A4F4-BCB43BE3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13F9-C42D-4CA5-A775-0617B36C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A6E5-5FB6-490C-A8DB-233E8A5A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58E-3613-4FA9-BD63-161035F1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2BA-582A-4F83-9528-9543E93B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B84-C9EE-4957-96E3-9C550271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D2AD-A578-43CE-BBEC-7A9B307D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BA8-FBF2-470C-B0BC-B1E02FB3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A604-7126-415F-B4F0-C2C6D30F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2FF-52F9-4AF5-9992-626401ED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2E9-D685-4E7E-A86C-E8FF9928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FBD-0130-440F-B35D-E41C08DF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27825-EA1E-4DB0-B552-6B4B2728E7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