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56464"/>
        <c:axId val="34647493"/>
      </c:barChart>
      <c:catAx>
        <c:axId val="51756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7493"/>
        <c:crosses val="autoZero"/>
        <c:auto val="1"/>
        <c:lblAlgn val="ctr"/>
        <c:lblOffset val="100"/>
        <c:noMultiLvlLbl val="0"/>
      </c:catAx>
      <c:valAx>
        <c:axId val="34647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56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5E1-EA5D-4F34-93E4-4EBC1CD2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37A-A768-4BA3-AC18-25BAF0B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D0A-5AA6-4160-9804-9527DA8D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329-5DBC-4DF8-B20F-98D7EDE2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AE62-6D39-480C-A63D-6E10FBC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E6F-13CB-4A49-8CC9-61FFA09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14B-1E00-43F9-A43A-803213AD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C50-945B-4375-A24D-66D85B4F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411-5E12-47EA-BB57-A84D547F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FDF-5CC3-4971-A3C2-12C019D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BDB-749C-43CD-83EC-A1A63A8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779-DA3E-4742-A51C-0FEB382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B4EC1-F796-4423-9995-E49C2E4B33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