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54773"/>
        <c:axId val="28599016"/>
      </c:barChart>
      <c:catAx>
        <c:axId val="818547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99016"/>
        <c:crosses val="autoZero"/>
        <c:auto val="1"/>
        <c:lblAlgn val="ctr"/>
        <c:lblOffset val="100"/>
        <c:noMultiLvlLbl val="0"/>
      </c:catAx>
      <c:valAx>
        <c:axId val="28599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547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0664-5B83-4FAE-9229-A91C30C4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257-07F1-4016-AD1D-36B6E093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228F-9526-4D2D-BE54-A141CBEE2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B37C-E3BE-4AEE-8D05-4E2888263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2F21-EDD7-4A0D-BAC5-E60FA815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64A-FDFC-45CB-BBC7-527F9E66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F07-723F-4FD9-95D9-B396FA76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713-8CB0-4225-B8ED-3943C77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9B6-D865-498A-AC66-FC1C43797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5547-BA81-40F5-B591-828A92326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742D-1F74-46CA-A785-9888993E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ACC-CCCF-4756-ADEB-CDC053BB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0B8E19-A19B-4D43-A850-296D4732277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