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48921"/>
        <c:axId val="76766125"/>
      </c:barChart>
      <c:catAx>
        <c:axId val="27148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66125"/>
        <c:crosses val="autoZero"/>
        <c:auto val="1"/>
        <c:lblAlgn val="ctr"/>
        <c:lblOffset val="100"/>
        <c:noMultiLvlLbl val="0"/>
      </c:catAx>
      <c:valAx>
        <c:axId val="76766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8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BC2-0910-4AFC-8D2D-99990975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562-6A27-4277-8DEC-7C5D94A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494-8670-4732-8915-4E2227D0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274-6B4C-4427-A30F-B57B1497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1C5-BEC6-4298-A7F1-C4037830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67E-A496-4BB0-BF28-8C329FBC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CDE-9B1E-41E6-A19A-0FA35816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472-3442-439C-9260-3511AD9D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E86-9981-45B1-A268-6B833D1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458-DD41-44B1-9CC3-84C7646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005-BC7E-4B9C-B12D-58896C2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914-0DFF-4995-9374-AF013E5E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F0E6-BB54-4DAA-93F1-FFB95170BD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