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19860"/>
        <c:axId val="91208837"/>
      </c:barChart>
      <c:catAx>
        <c:axId val="275198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08837"/>
        <c:crosses val="autoZero"/>
        <c:auto val="1"/>
        <c:lblAlgn val="ctr"/>
        <c:lblOffset val="100"/>
        <c:noMultiLvlLbl val="0"/>
      </c:catAx>
      <c:valAx>
        <c:axId val="912088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198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91F-6FA8-4F76-8CC8-E4713F33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1AF-D6B9-48DA-BB1F-5DD668F6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FB5-3F07-455C-A1D3-9E6BAE56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5A8-A6D9-43C0-9DD7-93D363CE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CA9-E836-475D-97FF-4F748D42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17C-4DAD-4B03-8DB1-B5E1ED33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36A-8929-44F0-808F-E3C59DE0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8A6-7371-41B3-B0E3-BE4B7665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759-79F0-48D8-9968-72E91C4D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506-0F06-46F2-9A63-AE2FF4A5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1A0-5994-4FFE-98F3-52900EC3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B19-7C34-461C-B3C8-1AE022DF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02E6A-83A4-4DFD-B8BF-2BB8DBBC66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