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66789"/>
        <c:axId val="19084375"/>
      </c:barChart>
      <c:catAx>
        <c:axId val="63667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84375"/>
        <c:crosses val="autoZero"/>
        <c:auto val="1"/>
        <c:lblAlgn val="ctr"/>
        <c:lblOffset val="100"/>
        <c:noMultiLvlLbl val="0"/>
      </c:catAx>
      <c:valAx>
        <c:axId val="190843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67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B0FF-8F9E-419A-84AC-2E0F62F61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B3CF-1670-4A6F-8658-6978D0FE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B5B1-91D6-4E69-BFB3-B251D7190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E54C-B9DE-4754-8799-48D20F7B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1226-F9AB-4AC1-BAFD-E2D4E714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1AEE-3722-46F0-9B4C-0FE66FCF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EF99-F6E2-4504-B8BF-77D2C803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CA46-517C-4803-8154-D3DF1C12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5C58-E47A-4DCF-AFA2-5B1223D4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EF77-C5D5-48E6-A031-B77C8A19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E14B-C411-41C1-96DE-F09CB7A5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381B-90CE-412A-9C7B-B7E221C0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6D424-6152-4CCE-8BAC-FE5E82D54E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