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80069"/>
        <c:axId val="27029798"/>
      </c:barChart>
      <c:catAx>
        <c:axId val="48680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9798"/>
        <c:crosses val="autoZero"/>
        <c:auto val="1"/>
        <c:lblAlgn val="ctr"/>
        <c:lblOffset val="100"/>
        <c:noMultiLvlLbl val="0"/>
      </c:catAx>
      <c:valAx>
        <c:axId val="2702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80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C46-FE86-4846-8718-6F34B4B2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69B-C7CB-4BEB-84C3-56D7D74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FC7-0DC3-42C3-9598-48231B77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287-BA6C-41D4-926D-5AEFE3B8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C36-F0C9-44DF-B63A-A9A4B2F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18B-18A2-438B-8849-B9E2B2A9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CFB-22D1-48EA-BD71-61A42AA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C3D-6A3B-4FB1-A44E-C718C0B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671-43C1-466A-ACE6-55E2636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7BF-BB81-4F51-B6A7-27361658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C2F-CD59-4AE8-82A2-FD038A0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8AC-B5C6-44EB-B7B4-A932B2D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0315A-192A-482C-B9D7-AA3BF0E33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