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97413"/>
        <c:axId val="74145874"/>
      </c:barChart>
      <c:catAx>
        <c:axId val="28297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45874"/>
        <c:crosses val="autoZero"/>
        <c:auto val="1"/>
        <c:lblAlgn val="ctr"/>
        <c:lblOffset val="100"/>
        <c:noMultiLvlLbl val="0"/>
      </c:catAx>
      <c:valAx>
        <c:axId val="74145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97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351-C2C4-4089-8FE6-BF052D23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17E-9FB8-4080-92D9-4003AD5E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AB5-9BE7-496D-AE61-F7BDCF5E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360-C658-4ACC-A3D1-73751158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0CDA-125F-4151-863B-1F30C3A3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440-A012-4766-8042-5E1997B5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CF8-7B8B-4BDF-A5FD-E1164491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AC6-2AB7-421F-A849-42599810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93C-5B85-40B0-84C9-E22CAAC6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3A0-2A9E-4BB5-8F54-433A5E71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454-B548-4EE8-9D28-C9D9C7B7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B6B-6C42-4CE1-B5CA-F4178EC7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7D523-00A0-4E64-8EAF-8D8FE43083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