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80742"/>
        <c:axId val="58239523"/>
      </c:barChart>
      <c:catAx>
        <c:axId val="26780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39523"/>
        <c:crosses val="autoZero"/>
        <c:auto val="1"/>
        <c:lblAlgn val="ctr"/>
        <c:lblOffset val="100"/>
        <c:noMultiLvlLbl val="0"/>
      </c:catAx>
      <c:valAx>
        <c:axId val="58239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80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004-DDD2-453A-91D3-00C8F947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151-A339-4C9C-AD4C-7E2E9F99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158-F557-4803-8E7B-33CB044D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F64-1FF2-4EE6-A45E-C84D4D43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D42-24C0-4412-951A-B5E60242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210-E8FB-42F1-96C6-2360173C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185-7F19-41D3-98ED-04F082B9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152-0444-4983-B1B8-EC4F9754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A0C-1B52-49C2-A14D-B9939D26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4EC-40A4-44A4-B512-530DDD8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CB4-3183-4547-9EFB-04F794C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F57-18A7-4E66-AD48-3F6AC78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B93F3-6CB8-4B06-B200-80A3B56829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