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2196"/>
        <c:axId val="13746919"/>
      </c:barChart>
      <c:catAx>
        <c:axId val="3242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6919"/>
        <c:crosses val="autoZero"/>
        <c:auto val="1"/>
        <c:lblAlgn val="ctr"/>
        <c:lblOffset val="100"/>
        <c:noMultiLvlLbl val="0"/>
      </c:catAx>
      <c:valAx>
        <c:axId val="13746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2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D43-CF05-4617-9269-C5B1BDA6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B24-B36E-44F1-9C84-7C5F85D0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516-0098-4377-A9CD-F2FF9594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EA5-5981-4705-BB1C-C0A944B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49A-4B90-4E53-BCA7-10A1608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09C-2A7B-4F18-9D82-E5E47A8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03A-2E7A-449E-9CAC-A3F4022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A0B-1A8A-4A0A-B4FE-920B7824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601-C7C0-41CD-B08C-DF33F15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3D2-938A-4154-91B0-FD61B3F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2F0-5D98-424E-8946-3C72559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582-3D4F-4D1C-BD7E-C01227C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ED8FB-6913-4533-8575-07E0675CBB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