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03623"/>
        <c:axId val="68852368"/>
      </c:barChart>
      <c:catAx>
        <c:axId val="51203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52368"/>
        <c:crosses val="autoZero"/>
        <c:auto val="1"/>
        <c:lblAlgn val="ctr"/>
        <c:lblOffset val="100"/>
        <c:noMultiLvlLbl val="0"/>
      </c:catAx>
      <c:valAx>
        <c:axId val="68852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03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387-EF9E-4417-A98E-FEE27BF3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A32-E2D2-4E0B-8E68-4E72269D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FB2-59EC-4C16-94F4-707D94BB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4FD-C381-4B27-856F-4C469B3C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376-1411-450C-815E-8C1DA55E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F37-7176-41B1-9E08-4A654160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9F4-ED6F-4F97-AD50-0785461C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630-99DA-4C99-A22E-24867CFB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9AC-1FF6-4EFA-9D90-2596E030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488-81A1-410A-911B-6E95E8F2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995-54C7-41E1-9528-C70AE945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EDD-923B-46DE-B7B1-88D197C9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91CE8-D080-4D0F-895D-6B73540AC8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