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68659"/>
        <c:axId val="66537558"/>
      </c:barChart>
      <c:catAx>
        <c:axId val="94868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7558"/>
        <c:crosses val="autoZero"/>
        <c:auto val="1"/>
        <c:lblAlgn val="ctr"/>
        <c:lblOffset val="100"/>
        <c:noMultiLvlLbl val="0"/>
      </c:catAx>
      <c:valAx>
        <c:axId val="66537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68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4CC-748C-4A0C-A6CA-0EDDDF9A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4CB-AD9A-4F0A-BEDF-FCD8CEF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EF2-2375-4C38-9172-DC1694D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3CA-13FE-406D-B2A5-AF1A064A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F82-06A7-4632-9230-935EDB29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221-A358-4637-82F1-6B01F44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107-653C-4C59-8A00-47699D6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75B-6DB9-4A34-A6EF-6158F96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B7E-EEA3-48EA-8A8E-6ADD73D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AE3-56F8-45DF-96F6-6D870C3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6C8-446F-4374-B90A-5F0739A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500-5FD0-4F2C-9D5B-395566B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D30E-70E5-422F-A6CF-2D7746A19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