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09404"/>
        <c:axId val="88743415"/>
      </c:barChart>
      <c:catAx>
        <c:axId val="40209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43415"/>
        <c:crosses val="autoZero"/>
        <c:auto val="1"/>
        <c:lblAlgn val="ctr"/>
        <c:lblOffset val="100"/>
        <c:noMultiLvlLbl val="0"/>
      </c:catAx>
      <c:valAx>
        <c:axId val="88743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09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11EF-25C3-4351-9EB8-5B61DBB7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3A35-4A37-4EA7-9A85-C5ADC810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E3B-FD81-49D0-B81E-4F11C7CE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742-831A-4218-B70D-CD15FE93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40D5-C136-4199-8699-8987B934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3C0-753A-49CD-97E7-5373100B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3EC-9EE8-4676-A023-FE2D2144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FA8-C6D8-4E6C-A102-9E643BFA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340-561A-4659-B0BC-D10B5B22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26E-A35E-47B0-B09C-6FA3CFF3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4583-4F0B-4050-9E74-0EB1A565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D08-45DD-43AF-B2A6-D3FB8C11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DFBCC-3F4E-428C-8835-2B1C834A9E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