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782818"/>
        <c:axId val="68240222"/>
      </c:barChart>
      <c:catAx>
        <c:axId val="227828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40222"/>
        <c:crosses val="autoZero"/>
        <c:auto val="1"/>
        <c:lblAlgn val="ctr"/>
        <c:lblOffset val="100"/>
        <c:noMultiLvlLbl val="0"/>
      </c:catAx>
      <c:valAx>
        <c:axId val="682402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828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BA35-1225-446E-892D-86059CE6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F996-F573-4AA3-84B8-E64C4AD5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B20D-2D57-4DFB-A497-55A53D324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3262-1FEF-4839-BB43-1F332EF4F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CE25-882B-4EF5-96CD-70B239D7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E61B-2E32-4685-9099-525E2C43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B4E8-A0F6-4A50-B072-49248B0F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99E5-2713-4426-B174-81311F3E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6385-3FED-45E6-873C-E086E512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0B9C-E346-4976-8676-409AC3F3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291B-F901-4CEB-BB56-320901A8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E412-7C61-491B-8846-7526401A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2AF5E-74F2-4EA5-8A20-F09F707F9C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