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77318"/>
        <c:axId val="21012530"/>
      </c:barChart>
      <c:catAx>
        <c:axId val="93277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12530"/>
        <c:crosses val="autoZero"/>
        <c:auto val="1"/>
        <c:lblAlgn val="ctr"/>
        <c:lblOffset val="100"/>
        <c:noMultiLvlLbl val="0"/>
      </c:catAx>
      <c:valAx>
        <c:axId val="21012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77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46F-3329-40B0-8A2B-EE236A60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23C-948D-41DA-A832-113BBDF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043-BC9C-437C-9C77-590DD3A7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949-36AE-4D03-9614-62FFECCB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057-BAB9-4ACF-8F02-0098357E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E65-9BC8-4B65-9749-D5A8D147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7EE-7F37-48D8-BEA0-1587B90C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1F5-3481-47BA-904E-9C425150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F07-0141-4516-9B6A-62136E7F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BF5-9740-4A31-9273-4B784826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130-0511-47E4-9B3C-5DE5520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158-1E31-4384-B75A-8076092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F3AE3-373A-49D7-9E9B-A5A8FA88FB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