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60017"/>
        <c:axId val="17244993"/>
      </c:barChart>
      <c:catAx>
        <c:axId val="42160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44993"/>
        <c:crosses val="autoZero"/>
        <c:auto val="1"/>
        <c:lblAlgn val="ctr"/>
        <c:lblOffset val="100"/>
        <c:noMultiLvlLbl val="0"/>
      </c:catAx>
      <c:valAx>
        <c:axId val="17244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60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129-C896-4ACB-803B-F157DBF4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422-B3C6-4CAF-8EBD-32F1E9EA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9B6-3B2E-4B71-BEDF-C6895152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259-D0B9-4545-8AA8-C83CEA63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BDC-6B76-4BF3-BB40-FB318372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342-7DA9-474E-A5A0-6D5ED36C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C12-8E02-4695-98BB-B5A44556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654-5914-4BBC-AF1F-DFB62B72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C49-6B39-44F7-AD3B-CBC6515C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5A7-6C11-4C34-87E0-D7143EB3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EF9-379D-43EB-9CDB-7094455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7C1-CB90-499B-98FC-BAD1AD43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D87A1-2A89-4F5A-9354-0294874918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