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53026"/>
        <c:axId val="93896555"/>
      </c:barChart>
      <c:catAx>
        <c:axId val="83953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96555"/>
        <c:crosses val="autoZero"/>
        <c:auto val="1"/>
        <c:lblAlgn val="ctr"/>
        <c:lblOffset val="100"/>
        <c:noMultiLvlLbl val="0"/>
      </c:catAx>
      <c:valAx>
        <c:axId val="93896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53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0DB-2AC6-45C8-B2D9-77AFFD02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EEA-9BC3-416F-B82C-F5CAEACF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64C-6004-4FFF-AD2A-14EDF20F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449-5944-477B-A8D6-3BEE3500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B59-C989-41C1-80C0-B6A5B1EE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BB4-8592-4151-83D9-16BD7039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EBA-C59C-4E44-A337-744F39F4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35A-2C97-4F0D-9ECD-23B71398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0FE-ED10-49C0-91E9-BDD4C5DE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B4D-937E-4788-89B4-063D046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314-5B96-4D53-97D0-46F8709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B9E-A235-4A9A-8414-27891CE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41CD9-2837-413A-9833-7C0F6D12D0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