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23823"/>
        <c:axId val="82925145"/>
      </c:barChart>
      <c:catAx>
        <c:axId val="91023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25145"/>
        <c:crosses val="autoZero"/>
        <c:auto val="1"/>
        <c:lblAlgn val="ctr"/>
        <c:lblOffset val="100"/>
        <c:noMultiLvlLbl val="0"/>
      </c:catAx>
      <c:valAx>
        <c:axId val="82925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23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7C2-8500-40DB-8789-2BA86145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3CE-65AA-4D31-BD2B-57DE89D1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477-49C3-4F3C-9F68-26174A8E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82B-09EA-414B-B73C-FDE2A899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841-C9FD-4FD8-A2C2-B8A03187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DAF-8716-4EE1-A6B4-E95FD63E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A4E-00FA-4933-82EB-43B58A05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C4E-21CB-46CF-B2B4-90A61540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D2C-0007-4A81-942C-9ADDAACD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DA6-BA9C-4138-AD81-F9320E5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ACC-1101-42D9-95D0-F45E74B4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C78-EE36-453C-A1AE-E4FDDBB3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922E0-016E-4ACB-A199-BAE05534B3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