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76339"/>
        <c:axId val="37271951"/>
      </c:barChart>
      <c:catAx>
        <c:axId val="86676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1951"/>
        <c:crosses val="autoZero"/>
        <c:auto val="1"/>
        <c:lblAlgn val="ctr"/>
        <c:lblOffset val="100"/>
        <c:noMultiLvlLbl val="0"/>
      </c:catAx>
      <c:valAx>
        <c:axId val="37271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6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BEE-A06E-4D64-8DFF-D23C9FD8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BA7-3CB9-41AB-8B7C-F4509CF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83E-25FA-4AA1-ADED-21DD5D96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5E1-D741-412F-B671-9BD9762E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8BD-4988-4149-B71A-8B12E83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509-4FD5-40AE-8C26-F96617DF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060-B87C-4390-A870-45259F77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103-2A5C-4971-B45B-ACF3823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C7A-E3C3-4210-9960-95AAE171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E7B-43BB-4BDA-9181-300CFB7B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FDE-6EC5-4D25-B703-3877536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1A9-82AC-407C-A256-7E59B7A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2017B-8259-4639-95A4-5438B33F90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